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18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4842BC1-FC56-4563-95E0-6474C4033F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Page Hand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 Selection 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UATION REQUIREMENTS…Compulsory Credits…Grade 10/Grade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D4956FB-65B8-4FF4-819E-0BA9050273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hasizing… YOU need to research the options…the pre-requisites.  USE THE PH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Dates to remember…LISTED on the LDH Website.  (Including the October 3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rents’ N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hasizing… YOU need to research the options…the pre-requisites.  USE THE PH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Dates to remember…LISTED on the LDH Website.  (Including the October 3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rents’ N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hasizing… YOU need to research the options…the pre-requisites.  USE THE PH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Dates to remember…LISTED on the LDH Website.  (Including the October 3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rents’ N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hasizing… YOU need to research the options…the pre-requisites.  USE THE PH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Dates to remember…LISTED on the LDH Website.  (Including the October 3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rents’ N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76A7CC1-B87B-43AF-AD68-BC81D06AC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ity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 Numbers will be distributed mid-Nov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rounds of ad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-60% of CONDITIONAL offers are made AFTER mid-term of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m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ge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are open early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ust be submitted around the end of January for Equal Consid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ity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 Numbers will be distributed mid-Nov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rounds of ad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-60% of CONDITIONAL offers are made AFTER mid-term of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m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ge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are open early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ust be submitted around the end of January for Equal Consid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D0C714F-E51D-4915-BE6E-183A135C22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ity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 Numbers will be distributed mid-Nov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rounds of ad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-60% of CONDITIONAL offers are made AFTER mid-term of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m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ge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are open early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ust be submitted around the end of January for Equal Consid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Credit Counseling Summary online…or check in your first semester report car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8D2D694-2352-4E94-8685-67352838C2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hasizing… YOU need to research the options…the pre-requisites.  USE THE PH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Dates to remember…LISTED on the LDH Website.  (Including the October 3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rents’ N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11077BE-3943-4E8A-AA28-F73923E6E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1745-C81A-4F76-9320-271F427C5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663C-47C8-4C3F-A8C1-F4E23F53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2A29-1F90-4FFA-B382-52BF077F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1422-03B5-4AAE-8F6F-2D77CEF9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B0BB-CF80-4029-B758-F09E65CE9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EAF7-5D9C-4A67-AC90-6E63BC6C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4F56-CE24-4937-B065-FA9125D1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978A-808A-42D9-84D3-F21AAC68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6C92-9568-40A6-B1D0-DBD4156F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5B03-C374-4842-A1B5-A8AECAD9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64E9-3A84-466B-AAEC-781E783D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2DE0-F62C-4A6C-8F24-825A0987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FBD6-EF62-455F-A58F-3DFAC8B9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E220-0F43-465A-ACDE-0DB8A969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91A8-CEDD-49EF-B652-095123D0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8F33-BF1F-4930-B80C-6309C7395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36D7-ECFD-4A38-922D-5F295AAA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551FE-49A0-4FE4-8AA0-EA0700EEA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1A4CA-7815-49C8-8EC2-38CBEE6B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8A11E-F7AD-4887-BBA8-8593C182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581F2-D596-4870-AD37-86058613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DB64A-4350-48D3-A44C-2EF585F3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233A-5611-4C33-98D6-231B5A2A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AA86A-BA83-4958-A5C5-D2E71736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84E05-4ED0-449B-BCB7-71BF3672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99FDA-80DD-4AAA-8B43-D196B643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B5D73-B95E-4C07-84A4-82AAFF77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7EFD3-8CE9-4DB5-987F-F62D2CB0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7062D-61C7-4B35-9ECE-2F8205FE6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F50A7-202C-41F2-91AB-41F5C5D62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525A-454E-4D01-A6E4-FD5B1E2F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56D1-E787-4E59-94CB-E7E7AC12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3E71-9F0D-4090-B267-C212EDCE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3928-044E-4535-AF43-BC78BBB2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B4B6-3248-46E3-AC08-BAF1F1BF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A79D-A77A-49C0-B710-5233051D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b4fc5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b4fc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4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4fc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b4fc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b4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4fc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b4fc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b4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4fc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b4fc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b4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4fc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b4fc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b4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4fc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b4fc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4fc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b4fc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4fc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b4fc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7B06-0982-40A8-A856-CE118304F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D50F-4396-4254-BF68-B0B9F8826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D1CA-7A00-48AA-B783-3D43A83D5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drive.google.com/file/d/0B6473v8DfN6CcVRUQ3pybVlaYUk/view?usp=sharing" TargetMode="External"/><Relationship Id="rId2" Type="http://schemas.openxmlformats.org/officeDocument/2006/relationships/hyperlink" Target="https://drive.google.com/file/d/0B6473v8DfN6CcVRUQ3pybVlaYUk/view?usp=sharin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cblogo"/>
          <p:cNvPicPr/>
          <p:nvPr/>
        </p:nvPicPr>
        <p:blipFill>
          <a:blip r:embed="rId1"/>
          <a:stretch/>
        </p:blipFill>
        <p:spPr>
          <a:xfrm>
            <a:off x="2459160" y="3352680"/>
            <a:ext cx="4429080" cy="23814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576440" y="663480"/>
            <a:ext cx="6161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Broadway"/>
              </a:rPr>
              <a:t>Welcome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roadway"/>
              </a:rPr>
              <a:t>2018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roadway"/>
              </a:rPr>
              <a:t>Grad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640" y="1393920"/>
            <a:ext cx="7878960" cy="41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LLE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requisit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SD, ENG4C, and others depending on the specific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folios, Program tests (Math, Language, HOAE), and/or interviews are required for certain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helor degree programs and collaborative programs have university requirements (ex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chelor of Interior De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applied degree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.Sc. Nur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collaborative progr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iculation agreements with universities – opportunity to continue from college into degre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footer9"/>
          <p:cNvPicPr/>
          <p:nvPr/>
        </p:nvPicPr>
        <p:blipFill>
          <a:blip r:embed="rId1"/>
          <a:stretch/>
        </p:blipFill>
        <p:spPr>
          <a:xfrm>
            <a:off x="501480" y="6002280"/>
            <a:ext cx="8199720" cy="611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385920" y="1316160"/>
            <a:ext cx="822960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n a Bachelor’s Degree (Undergradu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. BSc, BCom, BA, BF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footer9"/>
          <p:cNvPicPr/>
          <p:nvPr/>
        </p:nvPicPr>
        <p:blipFill>
          <a:blip r:embed="rId1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ampus photo"/>
          <p:cNvPicPr/>
          <p:nvPr/>
        </p:nvPicPr>
        <p:blipFill>
          <a:blip r:embed="rId2"/>
          <a:stretch/>
        </p:blipFill>
        <p:spPr>
          <a:xfrm>
            <a:off x="1384200" y="2814480"/>
            <a:ext cx="6159600" cy="2540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539640" y="1547640"/>
            <a:ext cx="8229600" cy="38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requisit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 4U or 4M courses (some schools maximum of two 4M cour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4U and specific program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cut-off averages in specific courses for specific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folios, test results, and/or interviews are required for certain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7" descr="footer9"/>
          <p:cNvPicPr/>
          <p:nvPr/>
        </p:nvPicPr>
        <p:blipFill>
          <a:blip r:embed="rId1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1520" y="1585800"/>
            <a:ext cx="6837480" cy="36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ST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ance Counsel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B Guidanc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and College Lunch Time Vis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tter @ColByGu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 Remind App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B Grade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footer9"/>
          <p:cNvPicPr/>
          <p:nvPr/>
        </p:nvPicPr>
        <p:blipFill>
          <a:blip r:embed="rId1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7"/>
          <p:cNvSpPr/>
          <p:nvPr/>
        </p:nvSpPr>
        <p:spPr>
          <a:xfrm>
            <a:off x="1760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2" descr="Remind"/>
          <p:cNvPicPr/>
          <p:nvPr/>
        </p:nvPicPr>
        <p:blipFill>
          <a:blip r:embed="rId2"/>
          <a:stretch/>
        </p:blipFill>
        <p:spPr>
          <a:xfrm>
            <a:off x="5916600" y="3773520"/>
            <a:ext cx="2722680" cy="515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3" descr="twitter"/>
          <p:cNvPicPr/>
          <p:nvPr/>
        </p:nvPicPr>
        <p:blipFill>
          <a:blip r:embed="rId3"/>
          <a:stretch/>
        </p:blipFill>
        <p:spPr>
          <a:xfrm>
            <a:off x="4648320" y="3429000"/>
            <a:ext cx="479160" cy="479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23720" y="2928960"/>
            <a:ext cx="357192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footer9"/>
          <p:cNvPicPr/>
          <p:nvPr/>
        </p:nvPicPr>
        <p:blipFill>
          <a:blip r:embed="rId1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6"/>
          <p:cNvSpPr/>
          <p:nvPr/>
        </p:nvSpPr>
        <p:spPr>
          <a:xfrm>
            <a:off x="2194920" y="5003640"/>
            <a:ext cx="411264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ic Info  (www.electronicinfo.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7" descr="electronicinfo"/>
          <p:cNvPicPr/>
          <p:nvPr/>
        </p:nvPicPr>
        <p:blipFill>
          <a:blip r:embed="rId2"/>
          <a:stretch/>
        </p:blipFill>
        <p:spPr>
          <a:xfrm>
            <a:off x="1806480" y="2084400"/>
            <a:ext cx="4762440" cy="26002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0"/>
          <p:cNvSpPr/>
          <p:nvPr/>
        </p:nvSpPr>
        <p:spPr>
          <a:xfrm>
            <a:off x="564120" y="1262160"/>
            <a:ext cx="2300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EST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280" y="2199960"/>
            <a:ext cx="4762440" cy="13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footer9"/>
          <p:cNvPicPr/>
          <p:nvPr/>
        </p:nvPicPr>
        <p:blipFill>
          <a:blip r:embed="rId1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4343400" y="38894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Ontario Colleges"/>
          <p:cNvPicPr/>
          <p:nvPr/>
        </p:nvPicPr>
        <p:blipFill>
          <a:blip r:embed="rId2"/>
          <a:stretch/>
        </p:blipFill>
        <p:spPr>
          <a:xfrm>
            <a:off x="2036880" y="2122560"/>
            <a:ext cx="4570200" cy="17064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8"/>
          <p:cNvSpPr/>
          <p:nvPr/>
        </p:nvSpPr>
        <p:spPr>
          <a:xfrm>
            <a:off x="501480" y="4043520"/>
            <a:ext cx="7658280" cy="14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the university or colleg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n 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al T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mission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564120" y="1262160"/>
            <a:ext cx="2300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EST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23720" y="1585800"/>
            <a:ext cx="46864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5000"/>
          </a:bodyPr>
          <a:p>
            <a:pPr marL="7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ST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Evening (UIP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tober 2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:00 Parent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:15 UIP/YOU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:30 UIP Classroom Presentations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footer9"/>
          <p:cNvPicPr/>
          <p:nvPr/>
        </p:nvPicPr>
        <p:blipFill>
          <a:blip r:embed="rId1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OUF2"/>
          <p:cNvPicPr/>
          <p:nvPr/>
        </p:nvPicPr>
        <p:blipFill>
          <a:blip r:embed="rId2"/>
          <a:stretch/>
        </p:blipFill>
        <p:spPr>
          <a:xfrm>
            <a:off x="5378400" y="200808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9640" y="1393920"/>
            <a:ext cx="7878960" cy="41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footer9"/>
          <p:cNvPicPr/>
          <p:nvPr/>
        </p:nvPicPr>
        <p:blipFill>
          <a:blip r:embed="rId1"/>
          <a:stretch/>
        </p:blipFill>
        <p:spPr>
          <a:xfrm>
            <a:off x="501480" y="6002280"/>
            <a:ext cx="8199720" cy="6112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8"/>
          <p:cNvSpPr/>
          <p:nvPr/>
        </p:nvSpPr>
        <p:spPr>
          <a:xfrm>
            <a:off x="1105200" y="2192400"/>
            <a:ext cx="651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B - Where are you now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you tell your grade 12 self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188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through www.ontariocolleges.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opens in early Octo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95 application fee for 5 program ch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1, 2018 deadline for equal consi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1, 2018 colleges may begin sending offers of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1, 2018 deadline to resp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457200" y="1600200"/>
            <a:ext cx="7878600" cy="27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footer9"/>
          <p:cNvPicPr/>
          <p:nvPr/>
        </p:nvPicPr>
        <p:blipFill>
          <a:blip r:embed="rId1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47640"/>
            <a:ext cx="8229600" cy="37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fers of admission a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ditional offers of ad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dmission offers carefully and understand conditions pla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footer9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6"/>
          <p:cNvSpPr/>
          <p:nvPr/>
        </p:nvSpPr>
        <p:spPr>
          <a:xfrm>
            <a:off x="1760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8"/>
          <p:cNvSpPr/>
          <p:nvPr/>
        </p:nvSpPr>
        <p:spPr>
          <a:xfrm>
            <a:off x="1760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0"/>
          <p:cNvSpPr/>
          <p:nvPr/>
        </p:nvSpPr>
        <p:spPr>
          <a:xfrm>
            <a:off x="1760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Jill Badge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surname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-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ll.badgery@ocdsb.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arah Store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surname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-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rah.storey@ocdsb.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Rachel Nakashoj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surname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-Z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chel.nakashoji@ocdsb.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footer9"/>
          <p:cNvPicPr/>
          <p:nvPr/>
        </p:nvPicPr>
        <p:blipFill>
          <a:blip r:embed="rId1"/>
          <a:stretch/>
        </p:blipFill>
        <p:spPr>
          <a:xfrm>
            <a:off x="309600" y="6002280"/>
            <a:ext cx="8410680" cy="56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539640" y="241200"/>
          <a:ext cx="7954920" cy="844560"/>
        </p:xfrm>
        <a:graphic>
          <a:graphicData uri="http://schemas.openxmlformats.org/drawingml/2006/table">
            <a:tbl>
              <a:tblPr/>
              <a:tblGrid>
                <a:gridCol w="795492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Student Services Tea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db3d5"/>
                    </a:solidFill>
                  </a:tcPr>
                </a:tc>
              </a:tr>
            </a:tbl>
          </a:graphicData>
        </a:graphic>
      </p:graphicFrame>
    </p:spTree>
  </p:cSld>
  <p:transition spd="slow"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23720" y="13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through www.ouac.on.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N Numbers will be distributed shor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50 application fee for three program choices ($50 for additional cho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0 change fee for new choices – unless new program at same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January 17, 201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adline for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57200" y="1600200"/>
            <a:ext cx="7878600" cy="27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7" descr="footer9"/>
          <p:cNvPicPr/>
          <p:nvPr/>
        </p:nvPicPr>
        <p:blipFill>
          <a:blip r:embed="rId1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47640"/>
            <a:ext cx="8229600" cy="37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university you apply to will provide you with a university specific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udent por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a personal log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fers of admission ar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ditional offers of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dmission offers carefully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derstand condi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ced (ex. maintain 80% aver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footer9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footer9"/>
          <p:cNvPicPr/>
          <p:nvPr/>
        </p:nvPicPr>
        <p:blipFill>
          <a:blip r:embed="rId1"/>
          <a:stretch/>
        </p:blipFill>
        <p:spPr>
          <a:xfrm>
            <a:off x="461880" y="5388120"/>
            <a:ext cx="80280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539640" y="2084400"/>
          <a:ext cx="7642440" cy="2727360"/>
        </p:xfrm>
        <a:graphic>
          <a:graphicData uri="http://schemas.openxmlformats.org/drawingml/2006/table">
            <a:tbl>
              <a:tblPr/>
              <a:tblGrid>
                <a:gridCol w="7642440"/>
              </a:tblGrid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ling Admission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arly roun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of offers in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cember/Januar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only for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ＭＳ Ｐゴシック"/>
                        </a:rPr>
                        <a:t>select school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based on top 4 or 5 Grade 11 marks (including prerequisite cours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irst roun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of admissions based on grade 11/12 marks submitted to OUAC in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ebruary 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econd roun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of admissions in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pril 201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073920" cy="4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4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with additional requirements (ie., portfolios) take longer for admission of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s taken outside of Colonel By must be submitted to counsellors for input (ie. Language, ILC, eLearning Cour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29, 201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test date to expect a response from Ontario Universities (offer of admission, refusal, defer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ne 1, 201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adline to accept o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footer9"/>
          <p:cNvPicPr/>
          <p:nvPr/>
        </p:nvPicPr>
        <p:blipFill>
          <a:blip r:embed="rId1"/>
          <a:stretch/>
        </p:blipFill>
        <p:spPr>
          <a:xfrm>
            <a:off x="615960" y="6002280"/>
            <a:ext cx="7758000" cy="608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385920" y="1585800"/>
            <a:ext cx="8229600" cy="38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chool-specif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lemental application dead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king of program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alternate off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erral process and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olar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footer9"/>
          <p:cNvPicPr/>
          <p:nvPr/>
        </p:nvPicPr>
        <p:blipFill>
          <a:blip r:embed="rId1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47640"/>
            <a:ext cx="8229600" cy="37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BLE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ak with your guidance counsel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e with the university or college admissions office/regist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footer9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B - Where are you now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you tell your grade 12 self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3" descr="footer9"/>
          <p:cNvPicPr/>
          <p:nvPr/>
        </p:nvPicPr>
        <p:blipFill>
          <a:blip r:embed="rId1"/>
          <a:stretch/>
        </p:blipFill>
        <p:spPr>
          <a:xfrm>
            <a:off x="461880" y="5734080"/>
            <a:ext cx="8229600" cy="6141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"/>
          <p:cNvSpPr/>
          <p:nvPr/>
        </p:nvSpPr>
        <p:spPr>
          <a:xfrm>
            <a:off x="1268280" y="1854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961920" y="1969920"/>
            <a:ext cx="706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501480" y="1460520"/>
            <a:ext cx="80265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ST-GRADUAT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ional Degre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dicine, Law, Dentistry, Education, Pharmacy, Physiotherap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-graduate Degrees: completed following undergraduate de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-graduate Diplomas and Certificates at Col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IVERSITY OUTSIDE OF ON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dlines and application processes must be completed directly through university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cripts can be requested through Guidance secretary (OUAC reference number used for many out-of-province schools such as McGill, UBC, Dalhous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and other International applications require students to contact guidance counsellor to advise AS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Application:  www.commonapp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USA: www.educationusa.state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6" descr="footer9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69880"/>
            <a:ext cx="822960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CHOLAR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vers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ance admission scholarships based on marks (80%+) do not require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rit-bas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holarships include prerequisite courses in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universities reassess scholarship offers if admission average increases or decr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s of scholarships are university-spec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lle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entrance admission scholarships, but many internal/external scholarship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footer9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0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tudent Services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23720" y="1547640"/>
            <a:ext cx="7878960" cy="29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ERE ARE YOU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ERE ARE YOU GO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W DO YOU GET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footer9"/>
          <p:cNvPicPr/>
          <p:nvPr/>
        </p:nvPicPr>
        <p:blipFill>
          <a:blip r:embed="rId1"/>
          <a:stretch/>
        </p:blipFill>
        <p:spPr>
          <a:xfrm>
            <a:off x="347760" y="5925960"/>
            <a:ext cx="8486640" cy="69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539640" y="241200"/>
          <a:ext cx="7954920" cy="844560"/>
        </p:xfrm>
        <a:graphic>
          <a:graphicData uri="http://schemas.openxmlformats.org/drawingml/2006/table">
            <a:tbl>
              <a:tblPr/>
              <a:tblGrid>
                <a:gridCol w="795492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ost Secondary Presenta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db3d5"/>
                    </a:solidFill>
                  </a:tcPr>
                </a:tc>
              </a:tr>
            </a:tbl>
          </a:graphicData>
        </a:graphic>
      </p:graphicFrame>
      <p:sp>
        <p:nvSpPr>
          <p:cNvPr id="140" name="Text Box 16"/>
          <p:cNvSpPr/>
          <p:nvPr/>
        </p:nvSpPr>
        <p:spPr>
          <a:xfrm>
            <a:off x="5608800" y="4273560"/>
            <a:ext cx="215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9" descr="future arrow"/>
          <p:cNvPicPr/>
          <p:nvPr/>
        </p:nvPicPr>
        <p:blipFill>
          <a:blip r:embed="rId2"/>
          <a:stretch/>
        </p:blipFill>
        <p:spPr>
          <a:xfrm>
            <a:off x="6300720" y="1816200"/>
            <a:ext cx="2371680" cy="365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188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HOLARSHIPS &amp; BURS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3720" y="1662120"/>
            <a:ext cx="822960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ES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el By Student Services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scholarshipscanada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Yconic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and College 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ance Counsel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461880" y="1585800"/>
            <a:ext cx="7878960" cy="27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footer9"/>
          <p:cNvPicPr/>
          <p:nvPr/>
        </p:nvPicPr>
        <p:blipFill>
          <a:blip r:embed="rId1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23720" y="16236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ST-SECONDARY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ition fees range $5,000-$16,000/year, plus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ence fees $4,800-$15,000 (+/- meal pla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to openly discuss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AP (estimator tool; loans and grant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osap.gov.on.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footer9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031080" y="3303720"/>
            <a:ext cx="1865160" cy="1807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SAP Update for 2017/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5920" y="169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SAP for 2017-20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AP includes: grants, bursaries and scholarship and lo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AP is a needs-based program.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AS AND OUAC will link with OSAP for the first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should receive confirmation of their OSAP funding at the same time as they receive conditional offers of admission from colleges and univers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OSAP PRESENTA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rsday, OCTOBER 2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@ LUNCH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footer9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SAP Update for 2017/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23720" y="185436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students are applying through OCAS/OUAC they will be presented with a green OSAP banner asking them to set-up their OSAP account to find out how much funding they will be eligible to receive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y link their OCAS/OUAC with OSAP, when the 18/19 OSAP application launches (planned for early November), OSAP will pre-populate applications based on student’s info and program sel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footer9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ecial Education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1880" y="15854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services for students with learning exceptionalities will differ from high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EP will not be acceptable documentation; current documentation (ex. psycho-educational assessment completed within last 4 years) will be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your prospective schools’ student support services, and book appointments to begin the process once an offer is accep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 the CUT information session:  November 1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footer9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188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udent Success Support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Post-Second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1880" y="17395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year students struggle with meeting deadlines, essay writing, academic expectations, motivation, and study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wait until there is a problem to seek support from the university/college – access “Student Success” services– there are many supports/programs in place to help you adapt and be success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footer9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2921040" y="1547640"/>
            <a:ext cx="2725560" cy="1535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2098800" y="23162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1268640" y="2584440"/>
            <a:ext cx="651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B - Where are you now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you tell your grade 12 self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188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5560" y="1431720"/>
            <a:ext cx="7878600" cy="29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69440" indent="-469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AC pins will be distributed through English classes as soon as they ar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an be a stressful process.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ay cal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ents, please be supportive, informed, and realist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udents, please be informed, realistic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unic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th your par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footer9"/>
          <p:cNvPicPr/>
          <p:nvPr/>
        </p:nvPicPr>
        <p:blipFill>
          <a:blip r:embed="rId1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5"/>
          <p:cNvSpPr/>
          <p:nvPr/>
        </p:nvSpPr>
        <p:spPr>
          <a:xfrm>
            <a:off x="360" y="-10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4417560" y="3245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6146640" y="2008080"/>
            <a:ext cx="1440000" cy="107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ill Badge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surnames A-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ll.badgery@ocdsb.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rah Store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surnames H-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rah.storey@ocdsb.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chel Nakashoj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urnames P-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hel.nakashoji@ocdsb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" descr="footer9"/>
          <p:cNvPicPr/>
          <p:nvPr/>
        </p:nvPicPr>
        <p:blipFill>
          <a:blip r:embed="rId1"/>
          <a:stretch/>
        </p:blipFill>
        <p:spPr>
          <a:xfrm>
            <a:off x="309600" y="6002280"/>
            <a:ext cx="8410680" cy="56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3" name=""/>
          <p:cNvGraphicFramePr/>
          <p:nvPr/>
        </p:nvGraphicFramePr>
        <p:xfrm>
          <a:off x="539640" y="241200"/>
          <a:ext cx="7954920" cy="844560"/>
        </p:xfrm>
        <a:graphic>
          <a:graphicData uri="http://schemas.openxmlformats.org/drawingml/2006/table">
            <a:tbl>
              <a:tblPr/>
              <a:tblGrid>
                <a:gridCol w="795492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Student Services Tea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db3d5"/>
                    </a:solidFill>
                  </a:tcPr>
                </a:tc>
              </a:tr>
            </a:tbl>
          </a:graphicData>
        </a:graphic>
      </p:graphicFrame>
    </p:spTree>
  </p:cSld>
  <p:transition spd="slow"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sign up for REM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1"/>
          <a:stretch/>
        </p:blipFill>
        <p:spPr>
          <a:xfrm>
            <a:off x="1806480" y="933480"/>
            <a:ext cx="5500800" cy="5765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8493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47760" y="1355400"/>
            <a:ext cx="84866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GRADUATION REQUIREMENTS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ave you </a:t>
            </a: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submitted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community involvement hour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(Due: May 31</a:t>
            </a:r>
            <a:r>
              <a:rPr b="0" lang="en-CA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, 201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ave you passed the Literacy Test (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OSSLT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) or the Literacy Cour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re you on track to earn your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credits?  (18 compulsory + 12 electiv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Review Credit Counselling Summary to verify this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footer9"/>
          <p:cNvPicPr/>
          <p:nvPr/>
        </p:nvPicPr>
        <p:blipFill>
          <a:blip r:embed="rId1"/>
          <a:stretch/>
        </p:blipFill>
        <p:spPr>
          <a:xfrm>
            <a:off x="328680" y="5964120"/>
            <a:ext cx="8199360" cy="611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grad hat"/>
          <p:cNvPicPr/>
          <p:nvPr/>
        </p:nvPicPr>
        <p:blipFill>
          <a:blip r:embed="rId2"/>
          <a:stretch/>
        </p:blipFill>
        <p:spPr>
          <a:xfrm>
            <a:off x="6453360" y="1278000"/>
            <a:ext cx="2052360" cy="1579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1480" y="1623960"/>
            <a:ext cx="7878960" cy="27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place? Apprenticeship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ge? Universi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/travel? Part-time studies/wor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p year to upgra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your strengths and interests when making a dec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some research to decide on op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footer9"/>
          <p:cNvPicPr/>
          <p:nvPr/>
        </p:nvPicPr>
        <p:blipFill>
          <a:blip r:embed="rId1"/>
          <a:stretch/>
        </p:blipFill>
        <p:spPr>
          <a:xfrm>
            <a:off x="501480" y="5964120"/>
            <a:ext cx="8199720" cy="611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road sign"/>
          <p:cNvPicPr/>
          <p:nvPr/>
        </p:nvPicPr>
        <p:blipFill>
          <a:blip r:embed="rId2"/>
          <a:stretch/>
        </p:blipFill>
        <p:spPr>
          <a:xfrm>
            <a:off x="6684840" y="1623960"/>
            <a:ext cx="1758960" cy="1758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54920" cy="37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AP YEAR? 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programs are avail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your guidance counsellor for tips on resumes, cover letters, interview skills, and letters of refer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PRENTICE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-op and apprenticeship programs are a great way to gain experience and make contacts if you are planning to go to work directly after high scho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footer9"/>
          <p:cNvPicPr/>
          <p:nvPr/>
        </p:nvPicPr>
        <p:blipFill>
          <a:blip r:embed="rId1"/>
          <a:stretch/>
        </p:blipFill>
        <p:spPr>
          <a:xfrm>
            <a:off x="539640" y="5772240"/>
            <a:ext cx="8172720" cy="610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640" y="1393920"/>
            <a:ext cx="7878960" cy="41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LLEGE?  UNIVERS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choosing a college or university, consid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and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university/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 within the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out of the cam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from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ences and alternative living arrang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footer9"/>
          <p:cNvPicPr/>
          <p:nvPr/>
        </p:nvPicPr>
        <p:blipFill>
          <a:blip r:embed="rId1"/>
          <a:stretch/>
        </p:blipFill>
        <p:spPr>
          <a:xfrm>
            <a:off x="501480" y="6002280"/>
            <a:ext cx="8199720" cy="611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23360" y="1816200"/>
            <a:ext cx="837252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B - Where are you now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hat would you tell your grade 12 self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footer9"/>
          <p:cNvPicPr/>
          <p:nvPr/>
        </p:nvPicPr>
        <p:blipFill>
          <a:blip r:embed="rId3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1393920"/>
            <a:ext cx="7878960" cy="41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LLE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oll in a diploma, degre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ve prog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footer9"/>
          <p:cNvPicPr/>
          <p:nvPr/>
        </p:nvPicPr>
        <p:blipFill>
          <a:blip r:embed="rId1"/>
          <a:stretch/>
        </p:blipFill>
        <p:spPr>
          <a:xfrm>
            <a:off x="501480" y="6002280"/>
            <a:ext cx="8199720" cy="611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college campus"/>
          <p:cNvPicPr/>
          <p:nvPr/>
        </p:nvPicPr>
        <p:blipFill>
          <a:blip r:embed="rId2"/>
          <a:stretch/>
        </p:blipFill>
        <p:spPr>
          <a:xfrm>
            <a:off x="5186520" y="2392200"/>
            <a:ext cx="3149280" cy="1770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Gillet building"/>
          <p:cNvPicPr/>
          <p:nvPr/>
        </p:nvPicPr>
        <p:blipFill>
          <a:blip r:embed="rId3"/>
          <a:stretch/>
        </p:blipFill>
        <p:spPr>
          <a:xfrm>
            <a:off x="501480" y="2968560"/>
            <a:ext cx="4070520" cy="2333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Algonquin"/>
          <p:cNvPicPr/>
          <p:nvPr/>
        </p:nvPicPr>
        <p:blipFill>
          <a:blip r:embed="rId4"/>
          <a:stretch/>
        </p:blipFill>
        <p:spPr>
          <a:xfrm>
            <a:off x="5186520" y="4235400"/>
            <a:ext cx="3149280" cy="1720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7T23:04:50Z</dcterms:created>
  <dc:creator>HP Authorized Customer</dc:creator>
  <dc:description/>
  <dc:language>en-US</dc:language>
  <cp:lastModifiedBy>C32954</cp:lastModifiedBy>
  <dcterms:modified xsi:type="dcterms:W3CDTF">2017-10-19T17:15:23Z</dcterms:modified>
  <cp:revision>206</cp:revision>
  <dc:subject/>
  <dc:title>Slide 1</dc:title>
</cp:coreProperties>
</file>